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404-2C3C-44A6-B234-E48E809E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F52-5DE4-44E6-AD59-F1F1B6A5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2F1-ED7B-4F00-BA3C-2F5EB1C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7F2-3F51-4C37-9D53-52EACB73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7E7-06A5-4F93-BF60-C73F637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137-E51E-4C9E-91D6-62DC2B3F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6D2-3C1B-4675-B312-459EBE7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E6E-6DB0-41CA-9E05-E27AE21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53F-E970-448B-83C8-11F94CE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132-9259-4DF6-8662-8D0E353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795-DED3-4906-844A-B0DF86D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7C7-7C78-4898-9BD4-23355B8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68FB-FC5B-4FD6-9096-6961B452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2590920" cy="4952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676520"/>
            <a:ext cx="2590560" cy="495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1676520"/>
            <a:ext cx="259092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l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38480" y="1828800"/>
            <a:ext cx="1133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iqu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G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9:02:48Z</dcterms:created>
  <dc:creator>344-student</dc:creator>
  <dc:description/>
  <dc:language>en-US</dc:language>
  <cp:lastModifiedBy>344-student</cp:lastModifiedBy>
  <dcterms:modified xsi:type="dcterms:W3CDTF">2012-11-07T19:02:51Z</dcterms:modified>
  <cp:revision>1</cp:revision>
  <dc:subject/>
  <dc:title>Three States of Matter</dc:title>
</cp:coreProperties>
</file>